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E75-0FCA-4BB5-9336-411EAFB2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D32-D617-4D10-819C-64CBD80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0FC-E419-43F9-AB08-3302BF9E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A70-B5E1-4707-B1C3-FDB9AC12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863-75E7-4069-850E-CD41BA19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4E8-B3F5-4CEC-8ED7-BD1CD1F4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19A-B23C-42F3-A876-A9FF9879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C9A-A53D-4CBF-B705-87A18087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B67-83E0-4740-A91A-47E2089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020-7CE2-4D28-97F1-7632B6D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131-0D30-4608-BA87-BADBD3A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F23-BFE9-4BC2-B1AC-CC1889D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FB61-4864-4898-8149-610E84DA9E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школа\0_90ba1_37720905_orig (1).png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429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427640" y="4581360"/>
            <a:ext cx="4248000" cy="375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Школ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Литературное чтение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          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3 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D:\клипарты\Дети\0_acfac_4960a1d2_L.png"/>
          <p:cNvPicPr/>
          <p:nvPr/>
        </p:nvPicPr>
        <p:blipFill>
          <a:blip r:embed="rId2"/>
          <a:stretch/>
        </p:blipFill>
        <p:spPr>
          <a:xfrm>
            <a:off x="900000" y="4395960"/>
            <a:ext cx="309564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622440" y="353880"/>
            <a:ext cx="8302320" cy="2797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18900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 Как вы думаете, о чем этот расск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слушайте рассказ (аудиофайл). После слушания рассказа попробуйте ответить на вопрос: «Почему у рассказа такое названи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"/>
          <p:cNvSpPr/>
          <p:nvPr/>
        </p:nvSpPr>
        <p:spPr>
          <a:xfrm>
            <a:off x="5508720" y="1700280"/>
            <a:ext cx="295092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мотреть и слу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азговор по телефону"/>
          <p:cNvPicPr/>
          <p:nvPr/>
        </p:nvPicPr>
        <p:blipFill>
          <a:blip r:embed="rId1"/>
          <a:stretch/>
        </p:blipFill>
        <p:spPr>
          <a:xfrm>
            <a:off x="611280" y="2708280"/>
            <a:ext cx="534672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drooby.ru/images/251/1259817.jpg"/>
          <p:cNvPicPr/>
          <p:nvPr/>
        </p:nvPicPr>
        <p:blipFill>
          <a:blip r:embed="rId2"/>
          <a:stretch/>
        </p:blipFill>
        <p:spPr>
          <a:xfrm>
            <a:off x="6424560" y="3500280"/>
            <a:ext cx="2284560" cy="30387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68360" y="40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-ме-ча-тель-ну- ю – замечатель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-ре-го-ва-ри-вать-ся – переговари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-го-ва-ри-ва-ешь – разговарив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planetaskazok.ru/images/stories/nosov/telephone/tmp510-15.jpg"/>
          <p:cNvPicPr/>
          <p:nvPr/>
        </p:nvPicPr>
        <p:blipFill>
          <a:blip r:embed="rId1"/>
          <a:stretch/>
        </p:blipFill>
        <p:spPr>
          <a:xfrm>
            <a:off x="2124000" y="2349360"/>
            <a:ext cx="4608720" cy="41608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68360" y="62064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чему у рассказа такое наз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Над чем вы смеялись, когда слушали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- Как вы думаете, какое продолжение может быть у этого произ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ы порадовали меня своим воображением, побывав в роли пис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- Чтобы узнать какой финал у этого рассказа, дома вы должны будете найти и прочитать его до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- Почему было интересно слушать этот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68360" y="1052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-не знали о чем говори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не умели говорить по телефо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взволнован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относились несерьез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-это игр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611280" y="4046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очему у ребят не получился разгов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395280" y="5229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ак вы считаете, какие проблемы поднимает автор в своём рассказе «Телефон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Могло бы это произойти в наши д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539640" y="476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здайте  памятку разговора по телефо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img.espicture.ru/2/geroi-nosova-kartinki-16.jpg"/>
          <p:cNvPicPr/>
          <p:nvPr/>
        </p:nvPicPr>
        <p:blipFill>
          <a:blip r:embed="rId1"/>
          <a:srcRect l="0" t="18028" r="0" b="0"/>
          <a:stretch/>
        </p:blipFill>
        <p:spPr>
          <a:xfrm>
            <a:off x="468360" y="2274840"/>
            <a:ext cx="8448480" cy="4583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500040" y="-3960"/>
            <a:ext cx="8358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ила  пользования телеф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говаривая по телефону, следует контролировать свою 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.  Не следует __________ в тру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____________ слушайте собеседника, никогда не _____________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бы вы не звонили, никогда не следует начинать разговор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ов «Кто ________?»  «Кто ________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только вас соединили с абонентом, следует представиться - назвать 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мните, что вы звоните в удобное для вас время, поэтому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обижаться, если Вас попросят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икогда не говорите по телефону с набитым ______, не _______, не 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Если во время разговора Вы чихнули или закашляли, постарайт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трубку __________, чтобы это не было слыш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покажется, что собеседник все слышал, надо сказать 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канчивая телефонный разговор, следует строго выпол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правило этикета - первым кладет трубку тот, кто _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________ подолгу разговаривать по телеф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7362720" y="500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тонац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648360" y="81432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он, ди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142880" y="81432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ри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761760" y="110016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ним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364800" y="110016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еребива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501280" y="171468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4284360" y="17146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ов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1576080" y="235728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вое и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864680" y="29289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ерезво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6039720" y="324324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7261560" y="3243240"/>
            <a:ext cx="8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ж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576360" y="3571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е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650880" y="417204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кр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3286080" y="4172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у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56280" y="47862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извинит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7718400" y="538632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зво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862560" y="56721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льз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11280" y="10526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Понравился ли вам рассказ Н.Носова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Чему научил вас рассказ «Телефон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Чему учат рассказы Нос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9640" y="476280"/>
            <a:ext cx="82803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какой целью Носов написал свой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1. Развеселить читателя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. Подшутить над кем-нибуд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3. Помочь увидеть поступки, поразмышлять над ни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4. Разбудить фантазию читател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987640" y="2924280"/>
            <a:ext cx="59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олжаем знакомиться с произведениями Н. Носова. Сегодня прочитаем рассказ «Телефо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642960" y="589680"/>
            <a:ext cx="80722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одолжите фразу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ыло тру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ольше всего мне понравилось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D:\клипарты\Дети\=003.png"/>
          <p:cNvPicPr/>
          <p:nvPr/>
        </p:nvPicPr>
        <p:blipFill>
          <a:blip r:embed="rId1"/>
          <a:stretch/>
        </p:blipFill>
        <p:spPr>
          <a:xfrm>
            <a:off x="6726240" y="3789360"/>
            <a:ext cx="2417760" cy="34275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684360" y="907920"/>
            <a:ext cx="62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. 170-172, чтение и ответы на вопросы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клипарты\Дети\=003.png"/>
          <p:cNvPicPr/>
          <p:nvPr/>
        </p:nvPicPr>
        <p:blipFill>
          <a:blip r:embed="rId1"/>
          <a:stretch/>
        </p:blipFill>
        <p:spPr>
          <a:xfrm>
            <a:off x="6321600" y="3068640"/>
            <a:ext cx="2417760" cy="3427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755640" y="4005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и прочит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расс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"/>
          <p:cNvSpPr txBox="1"/>
          <p:nvPr/>
        </p:nvSpPr>
        <p:spPr>
          <a:xfrm>
            <a:off x="714240" y="4286160"/>
            <a:ext cx="784404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иколай Николаеви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сов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3" descr="http://img11.nnm.ru/e/f/6/c/d/e807eb107ecfd2b78ce915f83f7.jpg"/>
          <p:cNvPicPr/>
          <p:nvPr/>
        </p:nvPicPr>
        <p:blipFill>
          <a:blip r:embed="rId1"/>
          <a:stretch/>
        </p:blipFill>
        <p:spPr>
          <a:xfrm>
            <a:off x="2193840" y="171360"/>
            <a:ext cx="4292640" cy="3949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755640" y="33336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етстве Носов увлекался музыкой, пением, театром, сочинительством, химией, шахматами, радиолюбительством, электротехникой, фотографией. Носов был режиссёром “Мосфильма”. Много времени уделил мультипликации, снимал учебные фильмы, во время войны – фильмы на военные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vfeu.ucoz.ru/nosov_nikolaj.jpg"/>
          <p:cNvPicPr/>
          <p:nvPr/>
        </p:nvPicPr>
        <p:blipFill>
          <a:blip r:embed="rId1"/>
          <a:stretch/>
        </p:blipFill>
        <p:spPr>
          <a:xfrm>
            <a:off x="324000" y="2349360"/>
            <a:ext cx="3524040" cy="42228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Picture 2" descr="http://dailyculture.ru/upload/medialibrary/ec2/ec29eec60f12063b57bfbef126e01958.jpg"/>
          <p:cNvPicPr/>
          <p:nvPr/>
        </p:nvPicPr>
        <p:blipFill>
          <a:blip r:embed="rId2"/>
          <a:stretch/>
        </p:blipFill>
        <p:spPr>
          <a:xfrm>
            <a:off x="4500720" y="2708280"/>
            <a:ext cx="3941640" cy="3621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18900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ервые телефон был изобретен американским профессором Беллом в 1876 году. Так получилось, что в один и тот же день14 февраля было подано две заявки на изобретения телефона. Это физик Э. Грей и преподаватель школы глухонемых А. Белл. Белл принес свою заявку на два часа раньше. Первые городские телефонные станции были установлены в 1882 году в Петербурге, Москве, Одессе, Риге и позднее по всей России. Люди давно искали способы быстрого общения. Так при раскопках одного из дворцов в Перу археологи обнаружили два тыквенных сосуда, соединенных бечевкой. Ученые пришли к выводу, что это один из предков телеф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pochemuha.ru/wp-content/uploads/2010/05/A.-Bell.jpg"/>
          <p:cNvPicPr/>
          <p:nvPr/>
        </p:nvPicPr>
        <p:blipFill>
          <a:blip r:embed="rId1"/>
          <a:stretch/>
        </p:blipFill>
        <p:spPr>
          <a:xfrm>
            <a:off x="5148360" y="3933720"/>
            <a:ext cx="3400200" cy="2791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6" descr="http://img-fotki.yandex.ru/get/5823/102013719.2/0_a8903_5c44cc8a_L.jpg"/>
          <p:cNvPicPr/>
          <p:nvPr/>
        </p:nvPicPr>
        <p:blipFill>
          <a:blip r:embed="rId2"/>
          <a:stretch/>
        </p:blipFill>
        <p:spPr>
          <a:xfrm>
            <a:off x="684360" y="4054320"/>
            <a:ext cx="3887640" cy="2667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11280" y="260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время идёт вперёд. Осваиваются новые технологии. И вместе с проводными телефонами, мы пользуемся сотовой связ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rfhadley.com/uploads/phoneevolution.jpg"/>
          <p:cNvPicPr/>
          <p:nvPr/>
        </p:nvPicPr>
        <p:blipFill>
          <a:blip r:embed="rId1"/>
          <a:stretch/>
        </p:blipFill>
        <p:spPr>
          <a:xfrm>
            <a:off x="1547640" y="1844640"/>
            <a:ext cx="5870880" cy="4827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6:56:37Z</dcterms:created>
  <dc:creator>Еленга Берюхова</dc:creator>
  <dc:description/>
  <dc:language>en-US</dc:language>
  <cp:lastModifiedBy>Наташа</cp:lastModifiedBy>
  <dcterms:modified xsi:type="dcterms:W3CDTF">2020-04-15T06:37:14Z</dcterms:modified>
  <cp:revision>15</cp:revision>
  <dc:subject/>
  <dc:title>Слайд 1</dc:title>
</cp:coreProperties>
</file>